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A36A-6428-4583-83CE-961F21BB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4237B-0024-4B89-B79F-9E2FC6A5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07ADB-C30D-4FEB-98D2-29FB485D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DE0EA-77B3-4F0E-8A8E-A16F2D7D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6D62-A6B7-4A41-8BB8-CAA9398B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7EC8-49B0-4404-9BFD-8EA25EA2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48D5-173F-4523-A4A9-563FF726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EC91-BD74-4CA5-A223-9A35FBCB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5AFD-9AFC-4521-B822-E657535B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574D-047A-4AC1-99E2-03BF549D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59C1-7B1A-4839-A78C-F25B3B63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B383-4D27-4512-A595-DDBC49FE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F05E-53B4-411D-B20C-2DEB935D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00D4-F8F6-4BC9-A4E3-AEC92E43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A700-28B6-48B7-86AE-4F7965F2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20D8-BFBB-49BC-AE52-04FA0385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F599-5485-47DE-B9E7-40202460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263A-8BFF-4239-BCE0-EAE8E17D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BFB4E-AEC5-4AF3-A826-400FF8B4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D7C34-63A1-41D8-9A36-5BA2054E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1B35-2B06-4A6C-80D0-68767A20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4848-9D79-4748-9BC4-8A6F2080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B6F8-0FCA-4B57-B1EB-EC568115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818F-763C-4A4D-A588-3A4E6B5F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2EF9-A693-42CF-B17D-714B3E5258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A0AE-7B6D-4203-B682-F63AC6C367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ift Cipher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 cipher is easy to break by a brute force att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ll 25 possible shifts on the ciph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m will produce 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o this for you (see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64772-D632-4FA8-8710-17350C7DDB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try all 25 shifts and report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143000" y="2195640"/>
            <a:ext cx="5325840" cy="4662360"/>
            <a:chOff x="1143000" y="2195640"/>
            <a:chExt cx="5325840" cy="466236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1143000" y="2195640"/>
              <a:ext cx="5325840" cy="46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268360" y="2919240"/>
              <a:ext cx="1114560" cy="1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902680" y="3720960"/>
            <a:ext cx="1501920" cy="865440"/>
            <a:chOff x="2902680" y="3720960"/>
            <a:chExt cx="1501920" cy="865440"/>
          </a:xfrm>
        </p:grpSpPr>
        <p:sp>
          <p:nvSpPr>
            <p:cNvPr id="122" name=""/>
            <p:cNvSpPr/>
            <p:nvPr/>
          </p:nvSpPr>
          <p:spPr>
            <a:xfrm>
              <a:off x="2944800" y="3747960"/>
              <a:ext cx="1380960" cy="83844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2680" y="3720960"/>
              <a:ext cx="150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ter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906560" y="2157480"/>
            <a:ext cx="1381320" cy="838080"/>
            <a:chOff x="1906560" y="2157480"/>
            <a:chExt cx="1381320" cy="838080"/>
          </a:xfrm>
        </p:grpSpPr>
        <p:sp>
          <p:nvSpPr>
            <p:cNvPr id="125" name=""/>
            <p:cNvSpPr/>
            <p:nvPr/>
          </p:nvSpPr>
          <p:spPr>
            <a:xfrm>
              <a:off x="1906560" y="2157480"/>
              <a:ext cx="138132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6440" y="2158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105520" y="2700360"/>
            <a:ext cx="3754440" cy="3233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5230800" y="1995480"/>
            <a:ext cx="1380960" cy="838080"/>
            <a:chOff x="5230800" y="1995480"/>
            <a:chExt cx="1380960" cy="838080"/>
          </a:xfrm>
        </p:grpSpPr>
        <p:sp>
          <p:nvSpPr>
            <p:cNvPr id="129" name=""/>
            <p:cNvSpPr/>
            <p:nvPr/>
          </p:nvSpPr>
          <p:spPr>
            <a:xfrm>
              <a:off x="5230800" y="1995480"/>
              <a:ext cx="138096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50680" y="1996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83080" y="4576680"/>
            <a:ext cx="2657520" cy="50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3560" y="3408480"/>
            <a:ext cx="30481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54320" y="4659480"/>
            <a:ext cx="914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75F9-203B-4DAF-B320-18F6AF7AC9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4T01:24:25Z</dcterms:modified>
  <cp:revision>35</cp:revision>
  <dc:subject/>
  <dc:title>CAP Cryptographic Analysis Program</dc:title>
</cp:coreProperties>
</file>